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18960" y="759960"/>
            <a:ext cx="4878360" cy="365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Num" idx="19"/>
          </p:nvPr>
        </p:nvSpPr>
        <p:spPr>
          <a:xfrm>
            <a:off x="4038480" y="8727840"/>
            <a:ext cx="278784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209D3E11-A3FC-41E1-BA77-A4EADEDA6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96800" y="415800"/>
            <a:ext cx="4541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5: Redacción y entreg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522360" y="8918640"/>
            <a:ext cx="4997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1932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1160" y="76032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final del capítulo, los alumnos podrán hacer lo siguie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234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acer una lista de los contenidos clave de un reporte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 prueba de aprobación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234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bir las formas en que se puede facilitar la lectur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234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sponder debidamente a las preguntas que hacen los clientes después de recibir su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1608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stos son los seis elementos del Reporte de pruebas de aprobación de polvo con plo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 formularios en blanco que se pueden usar para la Portada, Resumen de los resultados de muestreo y Resultados de inspección visual se proporcionan en e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éndice 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 este cur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mbién se incluye una copia del follet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novar correctamente: Información importante para familias, proveedores de cuidado infantil y escuelas acerca del peligro del plom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 e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éndic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1932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bido a que el HUD incluye unos requisitos de inspección visual más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xhaustivo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que la regla de la EPA, el HUD requiere información adicional referente a los detalles del reporte de prueba de aprobación de polvo con plom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1932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bido a que el HUD incluye unos requisitos de inspección visual más extensivos que la regla de la EPA, el HUD requiere información adicional referente a los detalles del reporte de prueba de aprobación de polvo con plom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1608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1608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D25C-EB16-47FE-B5FB-5CE08B021DEF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16765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écnico de muestreo de polvo con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nero de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59977C7F-834D-4020-ABB3-A348F7B64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6765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écnico de muestreo de polvo con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nero de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C72E6504-8BAD-4E77-BD0C-A4B982AA9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529D-1B4A-4034-94C0-3F2C65E1209B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F977E9AF-4666-45CE-9023-AE28DAB66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AF24-50C2-4A64-B060-A2C98307B12E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32866C6F-194B-426B-AF8A-91373E4F8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1AC9-660A-47F1-B870-B4EEC64C3049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757EC8B8-BD20-4413-AA84-5AD56AD71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B052-F486-4260-8AD5-C66955D71268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288F9CCC-9CE8-4F96-ACEF-233F9CB41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A9E7-676B-43D7-9865-3E3C9780B358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E16305ED-86CF-4CD9-AD58-FC7064E4F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8575-465F-4D51-BC21-D5AE0018859F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25A282E0-C62B-4C44-B0C1-33027ABFE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7A69-5955-4D7F-A522-FC690C34925F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4F899917-E0CB-43DA-BB87-EACD1B9F4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2C24-297F-43EC-985F-3C6161120316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2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Capítulo 5</a:t>
            </a:r>
            <a:br>
              <a:rPr sz="3600"/>
            </a:b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Redacción del reporte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90720" y="343008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Preparado por la Agencia de Protección Ambiental de EE.UU. y el Departamento de Vivienda y Urbanismo de EE.UU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979560" y="1676520"/>
            <a:ext cx="715968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una lista de los artículos que componen un reporte completo de pruebas de aprobación de polvo con plom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que el reporte sea fácil de entender para el client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39960" y="556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41480" y="623880"/>
            <a:ext cx="705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Contenido del reporte - RRP de la EPA 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04760" y="1973160"/>
            <a:ext cx="7121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ortada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umen de los resultados de muestreo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ultados de la inspección visual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ultados analíticos del laboratorio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olleto Renovar correctamente (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Apéndice B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28480" y="518760"/>
            <a:ext cx="808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Contenido del reporte - LSHR del HUD</a:t>
            </a:r>
            <a:endParaRPr b="1" lang="en-US" sz="32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640" y="1924200"/>
            <a:ext cx="8010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rección de la propiedad y si es multifamiliar, unidades específicas y áreas comunes afectada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cha del examen de aprobació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mbre, dirección y firma de la persona que efectúa la aprobación incluido el número de certificació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ultados de la inspección visual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8680" y="563040"/>
            <a:ext cx="831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Arial"/>
              </a:rPr>
              <a:t>Contenido del reporte - LSHR del HUD (cont.) </a:t>
            </a:r>
            <a:endParaRPr b="1" lang="en-US" sz="28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70040"/>
            <a:ext cx="822960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del muestreo de polv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 y dirección de cada laboratorio que analizó los resultado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echas de inicio y terminación del trabajo efectua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ripción escrita detallada de los métodos usados durante el trabajo y ubicaciones específicas detalladas donde se produjo el trabaj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se han corregido peligros del suelo, descripción de la ubicación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57420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Actividad: Redacción del reporte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28520" y="236808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ulte lo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nexos 5-A y 5-B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ase los reportes de aprobación de polvo con plomo en blanco y completado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680" y="587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Resumen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28520" y="1981080"/>
            <a:ext cx="7086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artículos que componen un reporte completo de pruebas de aprobación de polvo con plom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ómo hacer que el reporte sea fácil de entender para un client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0T16:08:14Z</dcterms:created>
  <dc:creator>Amy Mortimer</dc:creator>
  <dc:description/>
  <dc:language>en-US</dc:language>
  <cp:lastModifiedBy>hughesl</cp:lastModifiedBy>
  <cp:lastPrinted>2000-06-30T16:30:52Z</cp:lastPrinted>
  <dcterms:modified xsi:type="dcterms:W3CDTF">2014-01-14T14:22:50Z</dcterms:modified>
  <cp:revision>175</cp:revision>
  <dc:subject/>
  <dc:title>Module 2:  Planning Your 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x0020_Type">
    <vt:lpwstr/>
  </property>
  <property fmtid="{D5CDD505-2E9C-101B-9397-08002B2CF9AE}" pid="3" name="EPA_x0020_Subject">
    <vt:lpwstr/>
  </property>
  <property fmtid="{D5CDD505-2E9C-101B-9397-08002B2CF9AE}" pid="4" name="TaxCatchAll">
    <vt:lpwstr/>
  </property>
  <property fmtid="{D5CDD505-2E9C-101B-9397-08002B2CF9AE}" pid="5" name="TaxKeyword">
    <vt:lpwstr/>
  </property>
  <property fmtid="{D5CDD505-2E9C-101B-9397-08002B2CF9AE}" pid="6" name="TaxKeywordTaxHTField">
    <vt:lpwstr/>
  </property>
  <property fmtid="{D5CDD505-2E9C-101B-9397-08002B2CF9AE}" pid="7" name="e3f09c3df709400db2417a7161762d62">
    <vt:lpwstr/>
  </property>
  <property fmtid="{D5CDD505-2E9C-101B-9397-08002B2CF9AE}" pid="8" name="j747ac98061d40f0aa7bd47e1db5675d">
    <vt:lpwstr/>
  </property>
</Properties>
</file>